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13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marL="216000" indent="-216000" algn="r">
              <a:spcBef>
                <a:spcPts val="75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-216000" algn="r">
              <a:spcBef>
                <a:spcPts val="75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880" rIns="92880" tIns="46440" bIns="46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-216000" algn="r">
              <a:spcBef>
                <a:spcPts val="75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-216000" algn="r">
              <a:spcBef>
                <a:spcPts val="75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173AF-9578-4417-980A-43A9226A2B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1D43E-BB1D-43ED-8CA8-E9AE23F680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36BE5-947E-42AC-A28A-1261CF36F9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1811A-E767-4B89-B8D0-B3FF2FFDA4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B076B-9A35-434A-BA41-441FC63644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20232-A12A-42E8-871A-B62BF6941D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4FC79-CC3E-49A0-8ED6-50E4A964C8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B6750-AA81-4F95-9C5C-3062D2C48F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D5902-3A73-4A6F-A470-4543765057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FA496-1346-41AA-B838-DEBF56524A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4F637-E1F2-49BD-8FB2-56405E234E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C458D-DB95-444C-952C-056F041E81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FDC7A-BD4E-44F2-85D1-85043BC535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D95EE-2AB6-4E29-B8D3-622E694071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664CA-C4C2-4C67-95D0-CFF9B36FA6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1C7B7-C5A5-4F44-B1CC-9108A28195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5EC60-6A86-4E8D-945A-7DAD20121E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94A2D-0B05-484B-BB9D-CB6F9A4A9B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75F45-FD8D-400E-B298-CA456B1B4F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5DE73-84A6-4B4D-BF52-8ABF487E34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2608E-BB86-4598-9AEA-AAD3CAC4E1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88F4E-76A5-4668-9CE4-6BE00C3BB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1EF33-1EC4-4CF9-B2E2-B8ACA14CF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A6E61-A234-4682-9B25-99574E522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28B98-EB24-4A86-9CA1-5DBF8E70B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C0BB4-4E4B-41DE-94BE-D3976EB7F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F4B62-5B5A-48E5-9DD3-4A94D7659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B2355-78FE-4001-A17A-4C1F834CF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2BCEE-FE5E-4B62-83E8-4E624D1FD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51D98-0EA7-4DA8-9F8F-9E1DAA1E0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E8C87-4166-4728-966D-19E8AB708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3A181-C121-4D9A-A899-9835B3EEF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28977-251F-420F-806F-F1C8A2C67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2CED2-1B0A-46B4-84EA-E4AA56D31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E2A74-BE04-4797-BABD-7420CA708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1B732-1733-45D2-8976-7160EF144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29534-3EAD-470D-913C-89D62BA69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0788A-E368-4DFD-B0DD-2DB22F4DE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84B7C-7222-4B55-B5D1-B2F31DC42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01EA0-A3E0-43F9-BF45-A3C3379AD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9A2FA-7484-4EB7-B169-CFE4034E5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0EDA2-D8C5-4FF4-8BCA-19C18E435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336DD-4EB4-412E-A0E0-8AC58077A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E70C8-5314-4D12-98E2-42C0990F5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FD508-77B8-4B16-8033-F791D4058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375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375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375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375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375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375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375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375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375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375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375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375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375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375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375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375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375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375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375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375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375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8E0E4-3194-4BC5-9492-174695C7D1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Group 3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375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375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375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375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375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375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375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375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375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375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375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375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375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375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375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375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375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375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375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375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375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69BD0-5A2D-44CC-A000-0B3C2011FE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62120" y="1514520"/>
            <a:ext cx="7772400" cy="923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3366"/>
                </a:solidFill>
                <a:latin typeface="Times New Roman"/>
              </a:rPr>
              <a:t>Registration for 2014-2015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44792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nors, AP, NCVPS Online, &amp; HCC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What are AP Classes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lege Bo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d to take the AP exam @ a cost of $89 per exam (could chang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lege-level cla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pare students for rigor of colle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 pt. class for GP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earn college credi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Who should take AP Classes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7324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ents who meet the prerequisit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ents with excellent time management ski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ents who are self-motivated and independent work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sonal commitment to suc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ents who understand the work will be more rigorous and involve more out of class wor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4" descr="MC900434409[1]"/>
          <p:cNvPicPr/>
          <p:nvPr/>
        </p:nvPicPr>
        <p:blipFill>
          <a:blip r:embed="rId1"/>
          <a:stretch/>
        </p:blipFill>
        <p:spPr>
          <a:xfrm>
            <a:off x="6629400" y="5105520"/>
            <a:ext cx="762120" cy="71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dvanced Placement Cours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73240" y="14479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Op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ce-to-Face (1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1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grad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rse is taken with a PHS teac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e course commitment form per subject 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CVPS Online (1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1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grad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rse taken online with a non-PHS teac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courses not offered f-to-f at PH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e NCVPS course commitment 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P Face-to-face COURS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ught by PHS teac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st meet prerequisites of each course (see the course commitment fo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st take an AP prep elective (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mester / 5 points) with AP course (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mester / 6 point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Potential Face-to-face Courses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142640" y="1523520"/>
            <a:ext cx="3809880" cy="34290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Junior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 English I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 US His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 Bi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135400" y="1980720"/>
            <a:ext cx="3810240" cy="34290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Senior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 English I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 Calcul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 Bi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6"/>
          <p:cNvSpPr/>
          <p:nvPr/>
        </p:nvSpPr>
        <p:spPr>
          <a:xfrm>
            <a:off x="914400" y="708660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37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7"/>
          <p:cNvSpPr/>
          <p:nvPr/>
        </p:nvSpPr>
        <p:spPr>
          <a:xfrm>
            <a:off x="4175280" y="1511280"/>
            <a:ext cx="183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8"/>
          <p:cNvSpPr/>
          <p:nvPr/>
        </p:nvSpPr>
        <p:spPr>
          <a:xfrm>
            <a:off x="1143000" y="5715000"/>
            <a:ext cx="7848720" cy="4291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**An additional elective will be paired with each cours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3366"/>
                </a:solidFill>
                <a:latin typeface="Times New Roman"/>
              </a:rPr>
              <a:t>NCVPS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n-US" sz="8000" spc="-1" strike="noStrike">
                <a:solidFill>
                  <a:srgbClr val="003366"/>
                </a:solidFill>
                <a:latin typeface="Times New Roman"/>
              </a:rPr>
              <a:t>Online</a:t>
            </a:r>
            <a:endParaRPr b="0" lang="en-US" sz="8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066680" y="1981080"/>
            <a:ext cx="381024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2005, on the recommendation of the North Carolina e-Learning Commission, the General Assembly established the North Carolina Virtual Public Sch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510516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urpose of the North Carolina Virtual Public School (NCVPS) is to provide e-learning opportunities to stud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authorizing legislation for NCVPS states: “NCVPS shall be available at no cost to all students in North Carolina who are enrolled in NC’s public school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73240" y="304920"/>
            <a:ext cx="7772400" cy="7617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3366"/>
                </a:solidFill>
                <a:latin typeface="Times New Roman"/>
              </a:rPr>
              <a:t>Things to Consider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43000" y="12952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ourse offerings are only courses NOT taught at P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NCVPS courses will count as elective cred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udents must have a 3.0 or higher GPA to take an online class, plus additional requirements of NCVPS, and 2 teacher recommend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WORK AND COMMUNICATION IS COMPLETED ELECTRONICAL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acher could be located anywhere across the state; will not be a Pisgah teacher, and there will not be a Pisgah teacher responsible for assisting these students.  There WILL be a site-based facilitator for technical iss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CVPS’s grading periods do not match PHS – MUST MONITOR GRADES CAREFULLY!  Students (and parents) can do this on the NCVPS site with password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4"/>
          <p:cNvSpPr/>
          <p:nvPr/>
        </p:nvSpPr>
        <p:spPr>
          <a:xfrm>
            <a:off x="1295280" y="1066680"/>
            <a:ext cx="73152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3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17288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atomy and Physi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sych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362736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Honors Onlin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3" name="Title 6"/>
          <p:cNvSpPr/>
          <p:nvPr/>
        </p:nvSpPr>
        <p:spPr>
          <a:xfrm>
            <a:off x="5148360" y="380880"/>
            <a:ext cx="362736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Non Honors On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5173560" y="21337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frican American Stud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abic I/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rman I/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panese I/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urnali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tin I/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adership 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darin Chinese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dieval Stud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sych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ssian I/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T Pr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P Courses Offered ONLIN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17324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 Human Geogra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 Psych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 World His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 Statis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 European His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 Government and Poli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1"/>
          <p:cNvSpPr/>
          <p:nvPr/>
        </p:nvSpPr>
        <p:spPr>
          <a:xfrm>
            <a:off x="990720" y="5638680"/>
            <a:ext cx="7619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e: Online AP Courses are year-long and must be paired with another NCVPS AP course or two HCC courses (one per semest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ourse Commitment Form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73240" y="11426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st return to applicable teacher by Friday, Feb. 2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gning-up for course commits you to that course, if avail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st know numbers in order to determine the number of sections offe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 commits student(s) to class; if they pre-register and then change their mind, numbers and sections are unbalanced and other classes overloa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3366"/>
                </a:solidFill>
                <a:latin typeface="Times New Roman"/>
              </a:rPr>
              <a:t>Introductions</a:t>
            </a:r>
            <a:endParaRPr b="0" lang="en-US" sz="6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1143000" y="14479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unsel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ri Mills (A-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i Lawing (H-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resa Heinz (P-Z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ad Teach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Charly Inm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S AP Teache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 English III – Tabitha Ju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 US History – Tiffany Tur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 English IV – Shannon Han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 Calculus – Mary Medf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 Biology – Greg Tuck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itle 1"/>
          <p:cNvSpPr/>
          <p:nvPr/>
        </p:nvSpPr>
        <p:spPr>
          <a:xfrm>
            <a:off x="117324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3" descr="bd00028_"/>
          <p:cNvPicPr/>
          <p:nvPr/>
        </p:nvPicPr>
        <p:blipFill>
          <a:blip r:embed="rId1"/>
          <a:stretch/>
        </p:blipFill>
        <p:spPr>
          <a:xfrm>
            <a:off x="2362320" y="1600200"/>
            <a:ext cx="4952880" cy="4851360"/>
          </a:xfrm>
          <a:prstGeom prst="rect">
            <a:avLst/>
          </a:prstGeom>
          <a:ln w="0">
            <a:noFill/>
          </a:ln>
        </p:spPr>
      </p:pic>
      <p:sp>
        <p:nvSpPr>
          <p:cNvPr id="191" name="WordArt 5"/>
          <p:cNvSpPr txBox="1"/>
          <p:nvPr/>
        </p:nvSpPr>
        <p:spPr>
          <a:xfrm>
            <a:off x="1752480" y="990720"/>
            <a:ext cx="6705720" cy="8380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ctr">
              <a:spcBef>
                <a:spcPts val="137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Questions?</a:t>
            </a:r>
            <a:endParaRPr b="0" lang="en-US" sz="2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73240" y="457200"/>
            <a:ext cx="7772400" cy="601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3366"/>
                </a:solidFill>
                <a:latin typeface="Times New Roman"/>
              </a:rPr>
              <a:t>HCC</a:t>
            </a:r>
            <a:br>
              <a:rPr sz="9600"/>
            </a:br>
            <a:r>
              <a:rPr b="0" lang="en-US" sz="9600" spc="-1" strike="noStrike">
                <a:solidFill>
                  <a:srgbClr val="003366"/>
                </a:solidFill>
                <a:latin typeface="Times New Roman"/>
              </a:rPr>
              <a:t>COURSES</a:t>
            </a:r>
            <a:endParaRPr b="0" lang="en-US" sz="96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Why do we meet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ormation/Understan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rse Differ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rse Delivery Op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rse Commitment 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1371600" y="4186080"/>
            <a:ext cx="3200400" cy="309600"/>
          </a:xfrm>
          <a:prstGeom prst="rect">
            <a:avLst/>
          </a:prstGeom>
          <a:solidFill>
            <a:srgbClr val="5cad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ubtitle 2"/>
          <p:cNvSpPr/>
          <p:nvPr/>
        </p:nvSpPr>
        <p:spPr>
          <a:xfrm>
            <a:off x="4600440" y="4186080"/>
            <a:ext cx="32004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898989"/>
                </a:solidFill>
                <a:latin typeface="Arial"/>
              </a:rPr>
              <a:t>24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ubtitle 2"/>
          <p:cNvSpPr/>
          <p:nvPr/>
        </p:nvSpPr>
        <p:spPr>
          <a:xfrm>
            <a:off x="1378080" y="3538440"/>
            <a:ext cx="6395760" cy="304920"/>
          </a:xfrm>
          <a:prstGeom prst="rect">
            <a:avLst/>
          </a:prstGeom>
          <a:solidFill>
            <a:srgbClr val="a5bce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898989"/>
                </a:solidFill>
                <a:latin typeface="Arial"/>
              </a:rPr>
              <a:t>24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eft Brace 8"/>
          <p:cNvSpPr/>
          <p:nvPr/>
        </p:nvSpPr>
        <p:spPr>
          <a:xfrm rot="5400000">
            <a:off x="4295520" y="1447560"/>
            <a:ext cx="609480" cy="3200400"/>
          </a:xfrm>
          <a:custGeom>
            <a:avLst/>
            <a:gdLst>
              <a:gd name="textAreaLeft" fmla="*/ 389520 w 609480"/>
              <a:gd name="textAreaRight" fmla="*/ 609840 w 609480"/>
              <a:gd name="textAreaTop" fmla="*/ 15840 h 3200400"/>
              <a:gd name="textAreaBottom" fmla="*/ 3184560 h 3200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72"/>
                  <a:pt x="10800" y="343"/>
                </a:cubicBezTo>
                <a:lnTo>
                  <a:pt x="10800" y="10457"/>
                </a:lnTo>
                <a:cubicBezTo>
                  <a:pt x="10800" y="10629"/>
                  <a:pt x="5400" y="10800"/>
                  <a:pt x="0" y="10800"/>
                </a:cubicBezTo>
                <a:cubicBezTo>
                  <a:pt x="5400" y="10800"/>
                  <a:pt x="10800" y="10972"/>
                  <a:pt x="10800" y="11143"/>
                </a:cubicBezTo>
                <a:lnTo>
                  <a:pt x="10800" y="21257"/>
                </a:lnTo>
                <a:cubicBezTo>
                  <a:pt x="10800" y="21429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98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9"/>
          <p:cNvSpPr/>
          <p:nvPr/>
        </p:nvSpPr>
        <p:spPr>
          <a:xfrm>
            <a:off x="3762360" y="5791320"/>
            <a:ext cx="16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64 Stud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ight Brace 11"/>
          <p:cNvSpPr/>
          <p:nvPr/>
        </p:nvSpPr>
        <p:spPr>
          <a:xfrm rot="5400000">
            <a:off x="4181400" y="3619440"/>
            <a:ext cx="838080" cy="3200400"/>
          </a:xfrm>
          <a:custGeom>
            <a:avLst/>
            <a:gdLst>
              <a:gd name="textAreaLeft" fmla="*/ 0 w 838080"/>
              <a:gd name="textAreaRight" fmla="*/ 302760 w 838080"/>
              <a:gd name="textAreaTop" fmla="*/ 21600 h 3200400"/>
              <a:gd name="textAreaBottom" fmla="*/ 3178800 h 3200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36"/>
                  <a:pt x="10800" y="471"/>
                </a:cubicBezTo>
                <a:lnTo>
                  <a:pt x="10800" y="10329"/>
                </a:lnTo>
                <a:cubicBezTo>
                  <a:pt x="10800" y="10565"/>
                  <a:pt x="16200" y="10800"/>
                  <a:pt x="21600" y="10800"/>
                </a:cubicBezTo>
                <a:cubicBezTo>
                  <a:pt x="16200" y="10800"/>
                  <a:pt x="10800" y="11036"/>
                  <a:pt x="10800" y="11271"/>
                </a:cubicBezTo>
                <a:lnTo>
                  <a:pt x="10800" y="21129"/>
                </a:lnTo>
                <a:cubicBezTo>
                  <a:pt x="10800" y="21365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98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12"/>
          <p:cNvSpPr/>
          <p:nvPr/>
        </p:nvSpPr>
        <p:spPr>
          <a:xfrm>
            <a:off x="3749760" y="2090880"/>
            <a:ext cx="167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24 Stud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2" descr="C:\Documents and Settings\lray.HAYWOOD\Local Settings\Temporary Internet Files\Content.IE5\9XOAL1B9\MC900445568[1].wmf"/>
          <p:cNvPicPr/>
          <p:nvPr/>
        </p:nvPicPr>
        <p:blipFill>
          <a:blip r:embed="rId1"/>
          <a:stretch/>
        </p:blipFill>
        <p:spPr>
          <a:xfrm>
            <a:off x="676440" y="554040"/>
            <a:ext cx="2189160" cy="1890720"/>
          </a:xfrm>
          <a:prstGeom prst="rect">
            <a:avLst/>
          </a:prstGeom>
          <a:ln w="0">
            <a:noFill/>
          </a:ln>
        </p:spPr>
      </p:pic>
      <p:sp>
        <p:nvSpPr>
          <p:cNvPr id="150" name="TextBox 13"/>
          <p:cNvSpPr/>
          <p:nvPr/>
        </p:nvSpPr>
        <p:spPr>
          <a:xfrm>
            <a:off x="2362320" y="593640"/>
            <a:ext cx="5029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r each AP Class, per teacher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1"/>
          <p:cNvSpPr/>
          <p:nvPr/>
        </p:nvSpPr>
        <p:spPr>
          <a:xfrm>
            <a:off x="3200400" y="1219320"/>
            <a:ext cx="4191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ach AP class takes 2 blocks: 1-per semes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21932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3366"/>
                </a:solidFill>
                <a:latin typeface="Times New Roman"/>
              </a:rPr>
              <a:t>Honors Courses</a:t>
            </a:r>
            <a:endParaRPr b="0" lang="en-US" sz="8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What are Honors courses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 pt. class – G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rigorous than standard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different prerequisites and require teacher recommend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mester long courses – 1 Cred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Honors Courses Delivery Option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17324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op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ce-to-f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ught by PHS teac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e course commitment form per subject 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CVPS (1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1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grad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rses taken online with non-PHS teac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courses not offered f-to-f at PH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e NCVPS course commitment 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dditional Honors Option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ch to Broadway (see K. Medfor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 III/IV – only taught as honors      (see C. DeGro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TC III/IV (see Commander Weav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nd III/ IV – only taught as honors (see A. Stewar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430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3366"/>
                </a:solidFill>
                <a:latin typeface="Times New Roman"/>
              </a:rPr>
              <a:t>AP Courses</a:t>
            </a:r>
            <a:endParaRPr b="0" lang="en-US" sz="8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0T20:18:41Z</dcterms:created>
  <dc:creator>COMPUTER COORDINATOR</dc:creator>
  <dc:description/>
  <dc:language>en-US</dc:language>
  <cp:lastModifiedBy>Sharon Case</cp:lastModifiedBy>
  <cp:lastPrinted>2014-02-17T21:29:09Z</cp:lastPrinted>
  <dcterms:modified xsi:type="dcterms:W3CDTF">2014-02-18T19:08:54Z</dcterms:modified>
  <cp:revision>47</cp:revision>
  <dc:subject/>
  <dc:title>Registration for 2010-2011</dc:title>
</cp:coreProperties>
</file>