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1EF-6595-4765-895C-4283B100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A20-D895-4611-972E-4F24CEE5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C43-FA7F-442D-8818-E827914F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384-5B87-41BB-BE87-EAE80EE5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8CD-AA74-45E3-909C-67811EDE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FDD-DF9A-43EA-957E-2806989D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867-3CAE-4B9E-9CB7-E941889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7E2-9CD7-47D6-906A-2BCA0332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6BA-FF1D-4C6F-9873-2966BF9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86F-2135-4152-BDA0-93CA845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B65-4FBA-4BEF-98F6-706804A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D75-E495-454E-B2D1-48A5F214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CA54-F182-469E-AA87-BB54A1B2D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vcstar.com/media/img/photos/2009/10/29/mileycyrus_t607.jpg&amp;imgrefurl=http://www.vcstar.com/photos/2009/oct/29/78627/&amp;usg=__LqQ9Hnwv1tLSlulsF14H9f81HAs=&amp;h=912&amp;w=607&amp;sz=142&amp;hl=en&amp;start=331&amp;itbs=1&amp;tbnid=cZFPwszVe8qITM:&amp;tbnh=147&amp;tbnw=98&amp;prev=/images%3Fq%3Dmiley%2Bcyrus%2Bdisdney%26gbv%3D2%26ndsp%3D20%26hl%3Den%26safe%3Dactive%26sa%3DN%26start%3D32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edia.vcstar.com/media/img/photos/2009/10/29/mileycyrus_t607.jpg" TargetMode="External"/><Relationship Id="rId2" Type="http://schemas.openxmlformats.org/officeDocument/2006/relationships/hyperlink" Target="http://www.statesymbolsusa.org/Tennessee/Bird_Mockingbird.html" TargetMode="External"/><Relationship Id="rId3" Type="http://schemas.openxmlformats.org/officeDocument/2006/relationships/hyperlink" Target="http://www.roadsideamerica.com/story/14405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te of Tennesse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“The Volunteer State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ngel Pu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61324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tol is known as the Birthplace of Country Mus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essee has more than 3,800 documented c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ore horses per capita in Shelby County than any other county in the United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ty of Murfreesboro lies in the exact geographical center of the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ennessee became a state in 1796, the total population was 77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bird of Tenne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ockingb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hoto of Northern Mockingbird"/>
          <p:cNvPicPr/>
          <p:nvPr/>
        </p:nvPicPr>
        <p:blipFill>
          <a:blip r:embed="rId1"/>
          <a:stretch/>
        </p:blipFill>
        <p:spPr>
          <a:xfrm>
            <a:off x="5977080" y="342900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Cy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born in Nashville, Tennessee and she is 16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752480"/>
            <a:ext cx="320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t At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Towing and Recovery Museum Chattanooga, Tennessee. The history of tow trucks, complete with many exhibits; a wall of the Fallen honors those who died in the line of du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nternational Towing and Recovery Museum"/>
          <p:cNvPicPr/>
          <p:nvPr/>
        </p:nvPicPr>
        <p:blipFill>
          <a:blip r:embed="rId1"/>
          <a:stretch/>
        </p:blipFill>
        <p:spPr>
          <a:xfrm>
            <a:off x="6019920" y="4721400"/>
            <a:ext cx="29145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dia.vcstar.com/media/img/photos/2009/10/29/mileycyrus_t607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atesymbolsusa.org/Tennessee/Bird_Mockingbird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adsideamerica.com/story/144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ap-of-usa.co.uk/images/tennessee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6:44:06Z</dcterms:created>
  <dc:creator> Computer Coordinator</dc:creator>
  <dc:description/>
  <dc:language>en-US</dc:language>
  <cp:lastModifiedBy> Computer Coordinator</cp:lastModifiedBy>
  <dcterms:modified xsi:type="dcterms:W3CDTF">2010-03-10T16:57:35Z</dcterms:modified>
  <cp:revision>6</cp:revision>
  <dc:subject/>
  <dc:title>Slide 1</dc:title>
</cp:coreProperties>
</file>