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471-6C22-42E3-A063-813077A1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CF6-33CF-4DF3-A218-3B11EED6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C24-72C0-47E3-ACDF-9D121C45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C08-EC73-4C2C-9973-2D8E2CED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B1A-25D8-44FC-B056-3B3DEE3A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40E-CCD7-4140-BD87-40205756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FA7-08A1-49F9-83DD-C0C621D6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E74-F1BA-47B1-857C-30C7E513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9D4-A336-4E05-A1FD-127BB2CA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F18-5AB0-4B11-933D-CE5952B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84D-3F4D-4D2B-9723-92562AAE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9A0-7407-4272-A939-A7AADA65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D886-33CA-4767-A6E9-833105A8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auracandler.com/mmf/MasteringMathFactsMDSample.pd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tacnews.vcu.edu/2012/02/developing-math-fact-fluency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-5mathteachingresources.com/3rd-grade-number-activities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4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act fl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 fluency, we mean knowing a math fact with automaticity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?-- is often the question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Fast Math by Scholastic, students should know it within .8 of a second.  I have read elsewhere that 3 seconds is recommended by Common C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much like students know their sight words without thinking about them...that is how we want students to know their math facts. 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fact fluency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auracandler.com/mmf/MasteringMathFactsMDSampl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nowing facts fluently, students free up their working memory to work on more difficult steps and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her than recreating 8 x 6 in their mind and using a strategy every single time they see this fact, students must have fact fl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fact fluency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to fact fluency is having a strong conceptual understanding of the fact strategies (doubles, doubles + 1, using combinations of 10,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xpected of my chil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Required Fluency Expectations According to Common Co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Add and subtract within f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Add and subtract within 20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monstrating fluency for addition and subtraction within 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 and subtract within 20 using mental strategies. By end of Grade 2, know from memory all sums of two one-digit number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nd subtract within 100 using strategies based on place value, properties of operations, and/or the relationship between addition and subtr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 Multiply and divide within 100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the end of Grade 3, know from memory all products of two one-digit number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nd subtract within 1000 using strategies and algorithms based on place value, properties of operations, and/or the relationship between addition and subtr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Add and subtract multi-digit whol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 Multiply multi-digit whole numbe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I do to help my child become a more fluent mathematici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facts with your child in a variety of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r child set a goal and help your child reach that goal; set new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competitions and celeb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the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facts in frequently visited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earning the facts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kip counting/use a hundred’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tacnews.vcu.edu/2012/02/developing-math-fact-fluency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resources to help my child with fact flu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-5mathteachingresources.com/3rd-grade-number-activiti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ttps://sites.google.com/site/bestnextcommoncoremath/xtra-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ttp://www.k-5mathteachingresour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ebsites where kids ca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athmagicia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ultiplicati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athwi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k-2mathapps.blogspot.com/p/fact-fluency-practi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9:34:16Z</dcterms:created>
  <dc:creator>Kids</dc:creator>
  <dc:description/>
  <dc:language>en-US</dc:language>
  <cp:lastModifiedBy>Ira Hyde</cp:lastModifiedBy>
  <dcterms:modified xsi:type="dcterms:W3CDTF">2013-11-15T13:25:01Z</dcterms:modified>
  <cp:revision>19</cp:revision>
  <dc:subject/>
  <dc:title>Fact Fluency</dc:title>
</cp:coreProperties>
</file>